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03D-5CBA-49D8-B33A-4D33E48F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1F9-FFAB-4FD1-A371-D32A9CBA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31B-A520-4A49-AABE-BF3E1391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BCD-D26A-45BA-891E-093BFF46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BFC-9B35-4746-B3C8-589DDC9B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DCC-5FE6-438D-A161-C61F382D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5E4-1DF6-4616-9F0A-E421BD0A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F03-E9CB-4DD1-A164-F0662D2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D7C-E977-4CE2-96F0-B8FAECA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4E3-19CE-41F7-B05D-60FC569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D57-2A85-4234-A737-6985E445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054-5C8E-4CCD-92CD-716EE70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0D1D-BA41-485E-BB50-1631507FD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026DU50PD"/>
          <p:cNvPicPr/>
          <p:nvPr/>
        </p:nvPicPr>
        <p:blipFill>
          <a:blip r:embed="rId1"/>
          <a:stretch/>
        </p:blipFill>
        <p:spPr>
          <a:xfrm>
            <a:off x="0" y="-24120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4643280" y="836640"/>
            <a:ext cx="22449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6443640" y="3860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75000"/>
                  </a:srgbClr>
                </a:solidFill>
                <a:latin typeface="楷体_GB2312"/>
              </a:rPr>
              <a:t>朱自清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75000"/>
                </a:srgbClr>
              </a:solidFill>
              <a:latin typeface="楷体_GB2312"/>
              <a:ea typeface="楷体_GB2312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300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Arial"/>
              </a:rPr>
              <a:t>藁城区第八中学     邢艳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250920" y="0"/>
            <a:ext cx="3457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板书设计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99240" y="33570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116000" y="1773360"/>
            <a:ext cx="287280" cy="38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551600" y="16232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盼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79960" y="335700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绘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551600" y="52999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赞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2411280" y="227664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806560" y="23054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体轮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4067280" y="1916280"/>
            <a:ext cx="215640" cy="122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754160" y="162756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：  朗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621320" y="21625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：  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678200" y="27374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：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806560" y="41788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局部描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4284720" y="342900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4934520" y="3381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草图：草报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4936680" y="37882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花图：花争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500720" y="414864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风图：风唱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4936680" y="45075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雨图：雨润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5007960" y="48232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迎春图：人迎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723760" y="5399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个比喻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3"/>
          <p:cNvSpPr/>
          <p:nvPr/>
        </p:nvSpPr>
        <p:spPr>
          <a:xfrm>
            <a:off x="4140360" y="5229360"/>
            <a:ext cx="144360" cy="93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4535280" y="51836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娃娃：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4535280" y="55155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姑娘：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4535280" y="59043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年：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2004523216141105"/>
          <p:cNvPicPr/>
          <p:nvPr/>
        </p:nvPicPr>
        <p:blipFill>
          <a:blip r:embed="rId2"/>
          <a:stretch/>
        </p:blipFill>
        <p:spPr>
          <a:xfrm>
            <a:off x="6443640" y="836640"/>
            <a:ext cx="1333440" cy="695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2004523216141105"/>
          <p:cNvPicPr/>
          <p:nvPr/>
        </p:nvPicPr>
        <p:blipFill>
          <a:blip r:embed="rId3"/>
          <a:stretch/>
        </p:blipFill>
        <p:spPr>
          <a:xfrm>
            <a:off x="179280" y="5734080"/>
            <a:ext cx="1333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6"/>
          <p:cNvSpPr txBox="1"/>
          <p:nvPr/>
        </p:nvSpPr>
        <p:spPr>
          <a:xfrm>
            <a:off x="250920" y="0"/>
            <a:ext cx="331308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品析语言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0" y="2060640"/>
            <a:ext cx="914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盼望着，盼望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华文楷体"/>
                <a:ea typeface="华文楷体"/>
              </a:rPr>
              <a:t>运用反复的修辞手法，表达了作者盼春心切的强烈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切都像刚睡醒的样子，欣欣然张开了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运用了拟人的修辞手法，写出了春回大地、万物复苏的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态，画出了春的轮廓。</a:t>
            </a:r>
            <a:r>
              <a:rPr b="0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50920" y="1268280"/>
            <a:ext cx="86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辞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从修辞手法的角度，品位下列句 子的语言美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2004523216141105"/>
          <p:cNvPicPr/>
          <p:nvPr/>
        </p:nvPicPr>
        <p:blipFill>
          <a:blip r:embed="rId2"/>
          <a:stretch/>
        </p:blipFill>
        <p:spPr>
          <a:xfrm>
            <a:off x="7308720" y="476280"/>
            <a:ext cx="13338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0" y="1052640"/>
            <a:ext cx="928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树、杏树、梨树，你不让我，我不让你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运用拟人的修辞手法，形象地写出了春花竞相开放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的像火，粉的像霞，白的像雪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运用比喻、排比的修辞手法，形象地写出了春花争艳、万紫千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红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2004523216141105"/>
          <p:cNvPicPr/>
          <p:nvPr/>
        </p:nvPicPr>
        <p:blipFill>
          <a:blip r:embed="rId2"/>
          <a:stretch/>
        </p:blipFill>
        <p:spPr>
          <a:xfrm>
            <a:off x="6948360" y="3500280"/>
            <a:ext cx="1333800" cy="695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0" y="112536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山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朗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，水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，太阳的脸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用“朗润”写春山光泽；用“涨”写春水涣涣；用“红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写春日暖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草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偷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从土里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，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嫩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绿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瞧去，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一大片一大片满是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用“嫩嫩的”写春草的质地；用“绿绿的”写春草的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泽；“一大片一大片满是的”写春草的长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18900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炼字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揣摩下列绿色词语，分析其表达效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2004523216141105"/>
          <p:cNvPicPr/>
          <p:nvPr/>
        </p:nvPicPr>
        <p:blipFill>
          <a:blip r:embed="rId2"/>
          <a:stretch/>
        </p:blipFill>
        <p:spPr>
          <a:xfrm>
            <a:off x="7093080" y="5805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0" y="1484280"/>
            <a:ext cx="8964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在草丛里，像眼睛，像星星，还眨呀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运用了比喻、拟人的修辞手法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写出野花多、闪闪发 光、轻轻摆动的情景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下成千成百的蜜蜂嗡嗡地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一个“闹”字，不仅有声响，还呈现出一派喧嚣沸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热闹景象，境界全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2004523216141105"/>
          <p:cNvPicPr/>
          <p:nvPr/>
        </p:nvPicPr>
        <p:blipFill>
          <a:blip r:embed="rId2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0" y="836640"/>
            <a:ext cx="91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牛毛，像花针，像细丝，密密地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织着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屋顶上全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一层薄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个“斜”字，不说春风，却已含蓄第写出了春风。一个“笼”字准确地写出了这层薄烟的情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树叶儿却绿得发亮，小草儿也青得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一个“逼”字，写出了在春雨的滋润下，小草特别的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2004523216141105"/>
          <p:cNvPicPr/>
          <p:nvPr/>
        </p:nvPicPr>
        <p:blipFill>
          <a:blip r:embed="rId2"/>
          <a:stretch/>
        </p:blipFill>
        <p:spPr>
          <a:xfrm>
            <a:off x="7810560" y="285264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韵律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12682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文中句式以短句为主，短句节奏明快，适合描写春天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旋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运用大量叠字，如嫩嫩的、绿绿的、轻悄悄地、软绵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的，增添了音乐美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大量运用轻声、儿化，轻盈优美；排比句和“了”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运用，增强了语言的韵味和节奏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0046_xH3oDaco8MdM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2004523216141105"/>
          <p:cNvPicPr/>
          <p:nvPr/>
        </p:nvPicPr>
        <p:blipFill>
          <a:blip r:embed="rId2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6"/>
          <p:cNvSpPr txBox="1"/>
          <p:nvPr/>
        </p:nvSpPr>
        <p:spPr>
          <a:xfrm>
            <a:off x="179280" y="26028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写法探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839520"/>
            <a:ext cx="95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urier New"/>
              </a:rPr>
              <a:t>比较春草图、春花图、春风图、春雨图等图画，完成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urier New"/>
              </a:rPr>
              <a:t>面的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73360"/>
          <a:ext cx="9144000" cy="3109320"/>
        </p:xfrm>
        <a:graphic>
          <a:graphicData uri="http://schemas.openxmlformats.org/drawingml/2006/table">
            <a:tbl>
              <a:tblPr/>
              <a:tblGrid>
                <a:gridCol w="1576440"/>
                <a:gridCol w="2347920"/>
                <a:gridCol w="2879640"/>
                <a:gridCol w="234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图画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景物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描写角度（顺序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写作手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春草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春花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春风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春雨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迎春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167"/>
          <p:cNvSpPr/>
          <p:nvPr/>
        </p:nvSpPr>
        <p:spPr>
          <a:xfrm>
            <a:off x="2053080" y="263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嫩、绿、多、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8"/>
          <p:cNvSpPr/>
          <p:nvPr/>
        </p:nvSpPr>
        <p:spPr>
          <a:xfrm>
            <a:off x="1692360" y="3068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、艳、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9"/>
          <p:cNvSpPr/>
          <p:nvPr/>
        </p:nvSpPr>
        <p:spPr>
          <a:xfrm>
            <a:off x="210492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0"/>
          <p:cNvSpPr/>
          <p:nvPr/>
        </p:nvSpPr>
        <p:spPr>
          <a:xfrm>
            <a:off x="2390040" y="3933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细密、轻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1"/>
          <p:cNvSpPr/>
          <p:nvPr/>
        </p:nvSpPr>
        <p:spPr>
          <a:xfrm>
            <a:off x="194112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到人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2"/>
          <p:cNvSpPr/>
          <p:nvPr/>
        </p:nvSpPr>
        <p:spPr>
          <a:xfrm>
            <a:off x="4820760" y="256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物到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3"/>
          <p:cNvSpPr/>
          <p:nvPr/>
        </p:nvSpPr>
        <p:spPr>
          <a:xfrm>
            <a:off x="4820760" y="306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高到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5"/>
          <p:cNvSpPr/>
          <p:nvPr/>
        </p:nvSpPr>
        <p:spPr>
          <a:xfrm>
            <a:off x="5154120" y="35002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触觉、嗅觉、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7"/>
          <p:cNvSpPr/>
          <p:nvPr/>
        </p:nvSpPr>
        <p:spPr>
          <a:xfrm>
            <a:off x="3924360" y="4005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物到人、由近到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0"/>
          <p:cNvSpPr/>
          <p:nvPr/>
        </p:nvSpPr>
        <p:spPr>
          <a:xfrm>
            <a:off x="417312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景及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2"/>
          <p:cNvSpPr/>
          <p:nvPr/>
        </p:nvSpPr>
        <p:spPr>
          <a:xfrm>
            <a:off x="7237800" y="2558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面与侧面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3"/>
          <p:cNvSpPr/>
          <p:nvPr/>
        </p:nvSpPr>
        <p:spPr>
          <a:xfrm>
            <a:off x="7268760" y="299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虚实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4"/>
          <p:cNvSpPr/>
          <p:nvPr/>
        </p:nvSpPr>
        <p:spPr>
          <a:xfrm>
            <a:off x="7114320" y="3495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感官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5"/>
          <p:cNvSpPr/>
          <p:nvPr/>
        </p:nvSpPr>
        <p:spPr>
          <a:xfrm>
            <a:off x="7125840" y="392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动静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86"/>
          <p:cNvSpPr/>
          <p:nvPr/>
        </p:nvSpPr>
        <p:spPr>
          <a:xfrm>
            <a:off x="7114320" y="4359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开头呼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7"/>
          <p:cNvSpPr/>
          <p:nvPr/>
        </p:nvSpPr>
        <p:spPr>
          <a:xfrm>
            <a:off x="250920" y="5228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春图与其他四幅图之间有何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其他四幅图层层铺垫，很好的烘托了迎春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2920" y="1268280"/>
            <a:ext cx="90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们学过的不可多得的美文之一，作者把文章写得如此之好的原因是什么？我们应该怎样去做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观察细致，留心周围事物，抓住事物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多种修辞手法的综合运用，语言生动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调动人的感觉器官，使难写的事物形象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在平日学习中，要勤观察、抓特征，多揣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多练笔，多读书，活运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324000" y="260280"/>
            <a:ext cx="489564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体验与反思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543240" y="3357000"/>
            <a:ext cx="4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187280" y="1773360"/>
            <a:ext cx="505080" cy="4103640"/>
          </a:xfrm>
          <a:custGeom>
            <a:avLst/>
            <a:gdLst>
              <a:gd name="textAreaLeft" fmla="*/ 322920 w 505080"/>
              <a:gd name="textAreaRight" fmla="*/ 505440 w 505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91240" y="1556640"/>
            <a:ext cx="41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图景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－－抓住景物特征表现景物情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2866680" y="2059920"/>
            <a:ext cx="40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－－“总分总”式；巧妙的构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2172600" y="2636280"/>
            <a:ext cx="27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情感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－－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983240" y="356796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言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916360" y="335772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422880" y="320760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3398400" y="3712320"/>
            <a:ext cx="10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炼字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3495960" y="414900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韵律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911600" y="536832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手法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2916360" y="4724280"/>
            <a:ext cx="71280" cy="1989360"/>
          </a:xfrm>
          <a:custGeom>
            <a:avLst/>
            <a:gdLst>
              <a:gd name="textAreaLeft" fmla="*/ 45720 w 71280"/>
              <a:gd name="textAreaRight" fmla="*/ 71640 w 71280"/>
              <a:gd name="textAreaTop" fmla="*/ 51840 h 1989360"/>
              <a:gd name="textAreaBottom" fmla="*/ 1937520 h 198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3280320" y="47206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烘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3206880" y="537300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23600" y="60922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景方法灵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5292720" y="4724280"/>
            <a:ext cx="144360" cy="1989360"/>
          </a:xfrm>
          <a:custGeom>
            <a:avLst/>
            <a:gdLst>
              <a:gd name="textAreaLeft" fmla="*/ 92160 w 144360"/>
              <a:gd name="textAreaRight" fmla="*/ 144360 w 144360"/>
              <a:gd name="textAreaTop" fmla="*/ 51840 h 1989360"/>
              <a:gd name="textAreaBottom" fmla="*/ 1937520 h 198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6087600" y="429192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面与侧面结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5871960" y="4868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静结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5942880" y="537300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虚实结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5871960" y="587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官结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5799960" y="633816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近结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0" y="571680"/>
            <a:ext cx="9325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诵读课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理清文章思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握春之特点，体会作者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比喻、拟人的修辞，品味语言的精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细致观察、抓住特征、多角度描写景物的方法，学写写景小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7"/>
          <p:cNvSpPr txBox="1"/>
          <p:nvPr/>
        </p:nvSpPr>
        <p:spPr>
          <a:xfrm>
            <a:off x="539640" y="189000"/>
            <a:ext cx="208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拓展延伸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0" y="1515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从平时所积累的知识中搜集关于描写“春”的诗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0" y="30283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豆生南国，春来发几枝？ （王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知细叶谁裁出，二月春风似剪刀。（贺知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咏柳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是一年春好处，绝胜烟柳满皇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韩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春呈水部张十八员外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处早莺争暖树，谁家新燕啄春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白居易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钱塘湖春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阳春布德泽，万物生光辉。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汉乐府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歌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81000" y="1052640"/>
            <a:ext cx="9063000" cy="275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朗读课文，圈画文中生字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眨眼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酝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抖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64800" y="16495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52440" y="17002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014880" y="162864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892800" y="220500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h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991600" y="22050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ùn n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014880" y="2205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893160" y="278136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043080" y="278136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924160" y="27082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955440" y="32860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250920" y="407664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832320" y="392832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起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780840" y="4364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了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418480" y="393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hǎ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2412360" y="43646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à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4427640" y="3933720"/>
            <a:ext cx="73080" cy="72576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5760"/>
              <a:gd name="textAreaBottom" fmla="*/ 707040 h 72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841280" y="3788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躲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4770720" y="42915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5365440" y="3788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á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5435640" y="42915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à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250920" y="5013360"/>
            <a:ext cx="217440" cy="582480"/>
          </a:xfrm>
          <a:custGeom>
            <a:avLst/>
            <a:gdLst>
              <a:gd name="textAreaLeft" fmla="*/ 138960 w 217440"/>
              <a:gd name="textAreaRight" fmla="*/ 217800 w 217440"/>
              <a:gd name="textAreaTop" fmla="*/ 15120 h 582480"/>
              <a:gd name="textAreaBottom" fmla="*/ 56736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95800" y="4896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666720" y="5328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260000" y="4896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ù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311480" y="53301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"/>
          <p:cNvSpPr/>
          <p:nvPr/>
        </p:nvSpPr>
        <p:spPr>
          <a:xfrm>
            <a:off x="4356000" y="4941720"/>
            <a:ext cx="71640" cy="1800360"/>
          </a:xfrm>
          <a:custGeom>
            <a:avLst/>
            <a:gdLst>
              <a:gd name="textAreaLeft" fmla="*/ 45720 w 71640"/>
              <a:gd name="textAreaRight" fmla="*/ 72000 w 7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4699080" y="48963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5365440" y="4867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4699080" y="52995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5391360" y="52995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4699440" y="5659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5365080" y="558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4699440" y="6020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5221080" y="6020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4699080" y="6399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5365080" y="6399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518040" y="18828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预习与交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2004523216141105"/>
          <p:cNvPicPr/>
          <p:nvPr/>
        </p:nvPicPr>
        <p:blipFill>
          <a:blip r:embed="rId1"/>
          <a:stretch/>
        </p:blipFill>
        <p:spPr>
          <a:xfrm>
            <a:off x="7596360" y="5734080"/>
            <a:ext cx="1333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341360"/>
            <a:ext cx="792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形容山色明朗润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比喻姿态优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炫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呼唤朋友，招引同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原意是酿酒，文中是说各种气息在空气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发酵似的，越来越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789800" y="177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朗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284360" y="227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花枝招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70072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卖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221080" y="2997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呼朋引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94072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酝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765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下列意思，写出课文中相关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2004523216141105"/>
          <p:cNvPicPr/>
          <p:nvPr/>
        </p:nvPicPr>
        <p:blipFill>
          <a:blip r:embed="rId2"/>
          <a:stretch/>
        </p:blipFill>
        <p:spPr>
          <a:xfrm>
            <a:off x="395280" y="6021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50920" y="765000"/>
            <a:ext cx="8892720" cy="4950000"/>
            <a:chOff x="250920" y="765000"/>
            <a:chExt cx="8892720" cy="4950000"/>
          </a:xfrm>
        </p:grpSpPr>
        <p:pic>
          <p:nvPicPr>
            <p:cNvPr id="95" name="Picture 3" descr="ZWZHUZ01"/>
            <p:cNvPicPr/>
            <p:nvPr/>
          </p:nvPicPr>
          <p:blipFill>
            <a:blip r:embed="rId1"/>
            <a:srcRect l="0" t="0" r="0" b="9284"/>
            <a:stretch/>
          </p:blipFill>
          <p:spPr>
            <a:xfrm>
              <a:off x="6215400" y="765000"/>
              <a:ext cx="2928240" cy="49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4"/>
            <p:cNvSpPr/>
            <p:nvPr/>
          </p:nvSpPr>
          <p:spPr>
            <a:xfrm>
              <a:off x="250920" y="1903680"/>
              <a:ext cx="5902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朱自清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(1898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1948)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原名自华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字佩弦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号秋实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原籍浙江绍兴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生于江苏东海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现代著名的散文家、诗人、民主战士。有诗文集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踪迹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、散文集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欧游杂记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背影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以及一些文艺论著，收在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朱自清文集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里 。 散文代表作有：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绿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春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荷塘月色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背影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6"/>
          <p:cNvSpPr/>
          <p:nvPr/>
        </p:nvSpPr>
        <p:spPr>
          <a:xfrm>
            <a:off x="179280" y="189000"/>
            <a:ext cx="28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004523216141105"/>
          <p:cNvPicPr/>
          <p:nvPr/>
        </p:nvPicPr>
        <p:blipFill>
          <a:blip r:embed="rId2"/>
          <a:stretch/>
        </p:blipFill>
        <p:spPr>
          <a:xfrm>
            <a:off x="250920" y="6021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79280" y="189000"/>
            <a:ext cx="28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背景链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24000" y="2362320"/>
            <a:ext cx="845964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之后的朱自清，始终在寻觅着、营造着一个灵魂深处的理想世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的世界，用以安放他“颇不宁静”的拳拳之心，使他抵御外面世界的纷扰，能在幽闭的书斋中“独善其身”。本文写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写此文时，鲜明的表现出新鲜的格调和欢乐的情绪，“早春野景”使他的梦的世界走向了一个开阔、蓬勃的境地，突出地展示了他要在春天的引领下“上前去”的人生信念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讴歌了一个蓬蓬勃勃的春天，对春天进行田园牧歌式的抒情，它是朱自清心灵世界的一种逼真写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85840" y="2414160"/>
            <a:ext cx="864396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主要围绕“春”写了什么内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清文章的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章运用总分总的结构，第一部分（①～②自然段）盼春，第二部分（③～⑦自然段）绘春，第三部分（⑧～⑩自然段）赞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具体描绘了哪五幅春景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春草图、春风图、春花图、春雨图、迎春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250920" y="18900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整体感知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072440" y="126756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读课文，寻找文章的画面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2004523216141105"/>
          <p:cNvPicPr/>
          <p:nvPr/>
        </p:nvPicPr>
        <p:blipFill>
          <a:blip r:embed="rId1"/>
          <a:stretch/>
        </p:blipFill>
        <p:spPr>
          <a:xfrm>
            <a:off x="4716360" y="2637000"/>
            <a:ext cx="1333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2730600"/>
            <a:ext cx="9144000" cy="344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笔下绘出了哪些美丽的画面？分别用三个字概括。它们分别美在哪里？你能为你最喜欢的画面配上一句古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示例：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春草图：这是一幅生机勃勃的画面，令人见之则精神振奋。可配“浅草才能没马蹄”这句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春花图：这是一幅百花争艳的画面，色彩明丽。可配“乱花浅欲迷人眼”这句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春风图：这是一幅轻柔温暖的画面。可配“沾衣欲湿杏花雨，吹面不寒杨柳风”这句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春雨图：这是一幅绵长、细密、轻柔的画面。可配“随风潜入夜，润物细无声”这句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迎春图：这是一幅令人精神抖擞、热爱生活、积极向上的画面。可配“若有人知春去处，唤取归来同住”这句古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50920" y="0"/>
            <a:ext cx="40338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深层探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8" name="Picture 3" descr="2004523216141105"/>
          <p:cNvPicPr/>
          <p:nvPr/>
        </p:nvPicPr>
        <p:blipFill>
          <a:blip r:embed="rId1"/>
          <a:stretch/>
        </p:blipFill>
        <p:spPr>
          <a:xfrm>
            <a:off x="6227640" y="404640"/>
            <a:ext cx="13338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1663200"/>
            <a:ext cx="91440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在文中表达的感情是什么？请用一句话概括自己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在文中主要表达了“花有重开日，人无再少年”的惜春之意和热爱自然、赞美春天的爱春之情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像一首赞美诗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像一幅山水画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像一阕田园牧歌式的词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2004523216141105"/>
          <p:cNvPicPr/>
          <p:nvPr/>
        </p:nvPicPr>
        <p:blipFill>
          <a:blip r:embed="rId2"/>
          <a:stretch/>
        </p:blipFill>
        <p:spPr>
          <a:xfrm>
            <a:off x="5292720" y="1916280"/>
            <a:ext cx="1333440" cy="69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2004523216141105"/>
          <p:cNvPicPr/>
          <p:nvPr/>
        </p:nvPicPr>
        <p:blipFill>
          <a:blip r:embed="rId3"/>
          <a:stretch/>
        </p:blipFill>
        <p:spPr>
          <a:xfrm>
            <a:off x="1187280" y="3213000"/>
            <a:ext cx="13338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29:28Z</dcterms:created>
  <dc:creator>雨林木风</dc:creator>
  <dc:description/>
  <dc:language>en-US</dc:language>
  <cp:lastModifiedBy>微软中国</cp:lastModifiedBy>
  <dcterms:modified xsi:type="dcterms:W3CDTF">2018-10-08T02:12:41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